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69AA59-74CA-4F0B-9B80-4B7E40D5A4F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FC02F7-1448-4BE3-BFFB-FB6655F1130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88939C-C528-4B61-8846-974284E62D6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E736DE-5918-4B6D-941B-0192571102B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62F28D-86A3-4D68-AFEE-F0058DEBD85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2F267B-E826-470F-A829-E5C922AF8A3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EDA802-C8E9-4665-9638-32316EF13E4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F440D6-3E6C-437B-A43A-67B0EF4E966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E6AAAC-A329-43EE-8DC6-CBA08742669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A4571B-7539-4C42-85AB-9999803AC99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DD6730-1972-4F9B-BC23-75573856D10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7C1890-E4A3-4393-AB6D-15B9BF4D7AD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D0BEF8-C07A-47E6-A582-3B4E5D0C7AF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5BD-E1FC-428C-BEA0-3D42C4D7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CEF-EFF1-461D-B6F4-D6036A7E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FF8-5F74-4556-BD65-E74ED9DD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022-AE11-46FA-97D9-0B7031B8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067-A0B9-4A4F-825C-C44AE2A5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886A-EFDF-44B4-9808-8CB24AE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47A0-57F0-4CA9-8FCC-0DFCAFB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88FB-928B-4448-9492-6657604E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36EC-3DAF-4C2A-A6AB-58F7787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3721-7346-4E21-95B2-AF6F9953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B5E1-BCC1-4388-8348-E7F764A6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0FB-5050-4FBD-9314-7C309BD5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2BC1-E079-42CF-8F09-DDDEBCD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AD0D-5D2B-47C1-B260-329E414B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BC44-9CE7-48E9-8975-B4A12BA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BA49-6A34-4A5C-A42F-0E61CAC3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4683-245F-4473-AF3F-FC4735A7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9C1-5CC7-4C4B-9A06-F2222C77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A7D-D535-43A3-8538-DA46E24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804-A119-4067-ABDE-E9427185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8EA-8497-4F12-9122-A13DC2EE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00F-9E4D-45E9-A5AC-D9CC25C2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4BC-7D21-443E-821D-117BE13D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FF9-AF2B-437D-AAAD-C1A8ABE2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8DE5-9B9D-429A-9A0A-72377E09A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0761-FF1C-4D59-B178-59A4AC010AC9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Exact string search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16360" y="6308640"/>
            <a:ext cx="4427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Paper on Cuckoo Hash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Line 37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Text Box 38"/>
          <p:cNvSpPr/>
          <p:nvPr/>
        </p:nvSpPr>
        <p:spPr>
          <a:xfrm>
            <a:off x="3277440" y="33019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Line 39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85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ckoo Hashing Exampl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Line 31"/>
          <p:cNvSpPr/>
          <p:nvPr/>
        </p:nvSpPr>
        <p:spPr>
          <a:xfrm>
            <a:off x="2438280" y="2743200"/>
            <a:ext cx="35816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Line 32"/>
          <p:cNvSpPr/>
          <p:nvPr/>
        </p:nvSpPr>
        <p:spPr>
          <a:xfrm>
            <a:off x="4267080" y="2743200"/>
            <a:ext cx="763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Line 33"/>
          <p:cNvSpPr/>
          <p:nvPr/>
        </p:nvSpPr>
        <p:spPr>
          <a:xfrm flipH="1">
            <a:off x="3352680" y="2743200"/>
            <a:ext cx="2743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Line 34"/>
          <p:cNvSpPr/>
          <p:nvPr/>
        </p:nvSpPr>
        <p:spPr>
          <a:xfrm flipV="1">
            <a:off x="4191120" y="274284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Line 35"/>
          <p:cNvSpPr/>
          <p:nvPr/>
        </p:nvSpPr>
        <p:spPr>
          <a:xfrm flipH="1" flipV="1">
            <a:off x="24382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Line 36"/>
          <p:cNvSpPr/>
          <p:nvPr/>
        </p:nvSpPr>
        <p:spPr>
          <a:xfrm flipV="1">
            <a:off x="6019920" y="2819160"/>
            <a:ext cx="7596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37"/>
          <p:cNvSpPr/>
          <p:nvPr/>
        </p:nvSpPr>
        <p:spPr>
          <a:xfrm>
            <a:off x="5410800" y="35053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Line 38"/>
          <p:cNvSpPr/>
          <p:nvPr/>
        </p:nvSpPr>
        <p:spPr>
          <a:xfrm flipH="1" flipV="1">
            <a:off x="4266720" y="2742840"/>
            <a:ext cx="175284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ttangolo arrotondato 5"/>
          <p:cNvSpPr/>
          <p:nvPr/>
        </p:nvSpPr>
        <p:spPr>
          <a:xfrm>
            <a:off x="785880" y="5929200"/>
            <a:ext cx="8358120" cy="92880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Random (bipartite) graph: node=cell, edge=ke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atural Extens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More than 2 hashes (choices) per ke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ery different: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ypergraph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nstead of graph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igher memory uti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 choices : 90+% in experi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 choices : about 97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2 hashes +  bins of B-siz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lanced allocation and tightly O(1)-size bi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ion sees a tree of possible evict+ins path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6000840" y="3643200"/>
            <a:ext cx="3071880" cy="857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ut more insert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(and random acces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6286680" y="6072120"/>
            <a:ext cx="285732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ore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...but more loc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Making one-side errors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ounded Rectangle 3"/>
          <p:cNvSpPr/>
          <p:nvPr/>
        </p:nvSpPr>
        <p:spPr>
          <a:xfrm>
            <a:off x="3780000" y="6308640"/>
            <a:ext cx="5364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Paper on Bloom Fil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3111480" y="5800680"/>
            <a:ext cx="2262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7675560" cy="38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keep track of the URLs visited by a crawler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RLs ar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lo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eck should b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very 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spcAft>
                <a:spcPts val="876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 care abou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small error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≈ page not crawl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072120" y="5429160"/>
            <a:ext cx="2857680" cy="135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Bloom Fil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over crawled URL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earching with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errors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rcRect l="0" t="25756" r="0" b="0"/>
          <a:stretch/>
        </p:blipFill>
        <p:spPr>
          <a:xfrm>
            <a:off x="0" y="1773360"/>
            <a:ext cx="9144000" cy="5110200"/>
          </a:xfrm>
          <a:prstGeom prst="rect">
            <a:avLst/>
          </a:prstGeom>
          <a:ln w="0">
            <a:noFill/>
          </a:ln>
        </p:spPr>
      </p:pic>
      <p:sp>
        <p:nvSpPr>
          <p:cNvPr id="393" name="Rettangolo 4"/>
          <p:cNvSpPr/>
          <p:nvPr/>
        </p:nvSpPr>
        <p:spPr>
          <a:xfrm>
            <a:off x="0" y="6143760"/>
            <a:ext cx="914400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97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357800" y="5286240"/>
            <a:ext cx="32144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Exact 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25960" y="4245120"/>
            <a:ext cx="255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8000"/>
                </a:solidFill>
                <a:latin typeface="Comic Sans MS"/>
              </a:rPr>
              <a:t>Hashing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Rounded Rectangle 5"/>
          <p:cNvSpPr/>
          <p:nvPr/>
        </p:nvSpPr>
        <p:spPr>
          <a:xfrm>
            <a:off x="5003640" y="5805360"/>
            <a:ext cx="3600720" cy="792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roblem: false posi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5"/>
          <p:cNvSpPr/>
          <p:nvPr/>
        </p:nvSpPr>
        <p:spPr>
          <a:xfrm>
            <a:off x="6804000" y="4508640"/>
            <a:ext cx="2160720" cy="43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ot perfectly true but.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857160" y="4000680"/>
            <a:ext cx="650088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785880" y="514368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214200" y="3357720"/>
            <a:ext cx="892980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71680" y="3143160"/>
            <a:ext cx="778644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29" name="Object 3"/>
          <p:cNvGraphicFramePr/>
          <p:nvPr/>
        </p:nvGraphicFramePr>
        <p:xfrm>
          <a:off x="2292480" y="3413160"/>
          <a:ext cx="3994200" cy="24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2480" y="3413160"/>
                    <a:ext cx="399420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4"/>
          <p:cNvSpPr/>
          <p:nvPr/>
        </p:nvSpPr>
        <p:spPr>
          <a:xfrm>
            <a:off x="6948720" y="4140360"/>
            <a:ext cx="14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m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/</a:t>
            </a:r>
            <a:r>
              <a:rPr b="0" i="1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n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Line 5"/>
          <p:cNvSpPr/>
          <p:nvPr/>
        </p:nvSpPr>
        <p:spPr>
          <a:xfrm flipH="1">
            <a:off x="4276440" y="4214880"/>
            <a:ext cx="152280" cy="1066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475080" y="3957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Opt </a:t>
            </a:r>
            <a:r>
              <a:rPr b="0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= 5.45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286680" y="5214960"/>
            <a:ext cx="2857320" cy="1643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We do have a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xplicit formul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or the optimal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5" name="Picture 3" descr="C:\Users\ferragin\Desktop\Picture3.png"/>
          <p:cNvPicPr/>
          <p:nvPr/>
        </p:nvPicPr>
        <p:blipFill>
          <a:blip r:embed="rId4"/>
          <a:stretch/>
        </p:blipFill>
        <p:spPr>
          <a:xfrm>
            <a:off x="249120" y="4286160"/>
            <a:ext cx="18939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571680" y="1928880"/>
            <a:ext cx="77864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2" name="Picture 3" descr="C:\Users\ferragin\Desktop\Picture3.png"/>
          <p:cNvPicPr/>
          <p:nvPr/>
        </p:nvPicPr>
        <p:blipFill>
          <a:blip r:embed="rId2"/>
          <a:stretch/>
        </p:blipFill>
        <p:spPr>
          <a:xfrm>
            <a:off x="4035600" y="3108240"/>
            <a:ext cx="1893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Prefix-string search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Rounded Rectangle 4"/>
          <p:cNvSpPr/>
          <p:nvPr/>
        </p:nvSpPr>
        <p:spPr>
          <a:xfrm>
            <a:off x="5724360" y="6119640"/>
            <a:ext cx="327672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3.1 and 5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454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6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457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59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1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462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3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64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465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6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67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1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472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3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5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476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7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8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479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0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1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482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3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4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485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6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7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488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9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90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491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2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93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95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496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7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98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02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503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4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05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and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queezing str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8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519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0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1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2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523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524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5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6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7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28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537840" y="2252520"/>
            <a:ext cx="66031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systile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et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30" name="Group 27"/>
          <p:cNvGrpSpPr/>
          <p:nvPr/>
        </p:nvGrpSpPr>
        <p:grpSpPr>
          <a:xfrm>
            <a:off x="2268360" y="2265480"/>
            <a:ext cx="4030920" cy="968760"/>
            <a:chOff x="2268360" y="2265480"/>
            <a:chExt cx="4030920" cy="968760"/>
          </a:xfrm>
        </p:grpSpPr>
        <p:sp>
          <p:nvSpPr>
            <p:cNvPr id="531" name="Rectangle 21"/>
            <p:cNvSpPr/>
            <p:nvPr/>
          </p:nvSpPr>
          <p:spPr>
            <a:xfrm>
              <a:off x="2268360" y="2265480"/>
              <a:ext cx="358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2" name="Rectangle 22"/>
            <p:cNvSpPr/>
            <p:nvPr/>
          </p:nvSpPr>
          <p:spPr>
            <a:xfrm>
              <a:off x="3924360" y="2265480"/>
              <a:ext cx="934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3" name="Rectangle 23"/>
            <p:cNvSpPr/>
            <p:nvPr/>
          </p:nvSpPr>
          <p:spPr>
            <a:xfrm>
              <a:off x="5364000" y="2265480"/>
              <a:ext cx="93528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4" name="Text Box 24"/>
            <p:cNvSpPr/>
            <p:nvPr/>
          </p:nvSpPr>
          <p:spPr>
            <a:xfrm>
              <a:off x="227700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5" name="Text Box 25"/>
            <p:cNvSpPr/>
            <p:nvPr/>
          </p:nvSpPr>
          <p:spPr>
            <a:xfrm>
              <a:off x="422028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6" name="Text Box 26"/>
            <p:cNvSpPr/>
            <p:nvPr/>
          </p:nvSpPr>
          <p:spPr>
            <a:xfrm>
              <a:off x="566028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37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1852560"/>
            <a:ext cx="8715600" cy="44341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86280" y="263844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4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545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6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7" name="Text Box 59"/>
          <p:cNvSpPr/>
          <p:nvPr/>
        </p:nvSpPr>
        <p:spPr>
          <a:xfrm>
            <a:off x="4376160" y="3357720"/>
            <a:ext cx="46292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4572000" y="1857240"/>
            <a:ext cx="37468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pace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y issue: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a good hash fun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97600" y="174456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Lucida Sans"/>
                <a:ea typeface="Arial"/>
              </a:rPr>
              <a:t>Basic assumption:</a:t>
            </a:r>
            <a:r>
              <a:rPr b="0" lang="it-IT" sz="3200" spc="-1" strike="noStrike">
                <a:solidFill>
                  <a:srgbClr val="333399"/>
                </a:solidFill>
                <a:latin typeface="Lucida San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Arial"/>
              </a:rPr>
              <a:t>Uniform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14200" y="3030480"/>
            <a:ext cx="8786880" cy="1481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34920" y="503244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Avg #keys per slot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n * (1/m)  = n/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</a:t>
            </a:r>
            <a:r>
              <a:rPr b="0" lang="it-IT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Arial"/>
              </a:rPr>
              <a:t>(load factor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50920" y="5143680"/>
            <a:ext cx="8424720" cy="13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4000680" y="3500280"/>
            <a:ext cx="2928600" cy="500400"/>
            <a:chOff x="4000680" y="3500280"/>
            <a:chExt cx="2928600" cy="500400"/>
          </a:xfrm>
        </p:grpSpPr>
        <p:sp>
          <p:nvSpPr>
            <p:cNvPr id="105" name="Straight Connector 9"/>
            <p:cNvSpPr/>
            <p:nvPr/>
          </p:nvSpPr>
          <p:spPr>
            <a:xfrm>
              <a:off x="4000680" y="35002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Straight Connector 10"/>
            <p:cNvSpPr/>
            <p:nvPr/>
          </p:nvSpPr>
          <p:spPr>
            <a:xfrm>
              <a:off x="4500720" y="40006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earch co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57280" y="1838160"/>
            <a:ext cx="8029440" cy="31816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880920" y="5715000"/>
            <a:ext cx="7120080" cy="1071720"/>
            <a:chOff x="880920" y="5715000"/>
            <a:chExt cx="7120080" cy="1071720"/>
          </a:xfrm>
        </p:grpSpPr>
        <p:pic>
          <p:nvPicPr>
            <p:cNvPr id="110" name="Picture 3" descr=""/>
            <p:cNvPicPr/>
            <p:nvPr/>
          </p:nvPicPr>
          <p:blipFill>
            <a:blip r:embed="rId2"/>
            <a:stretch/>
          </p:blipFill>
          <p:spPr>
            <a:xfrm>
              <a:off x="880920" y="5774040"/>
              <a:ext cx="71200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6"/>
            <p:cNvSpPr/>
            <p:nvPr/>
          </p:nvSpPr>
          <p:spPr>
            <a:xfrm>
              <a:off x="880920" y="5715000"/>
              <a:ext cx="7072560" cy="107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12" name="Picture 1" descr="C:\Users\ferragin\Desktop\Picture1.png"/>
          <p:cNvPicPr/>
          <p:nvPr/>
        </p:nvPicPr>
        <p:blipFill>
          <a:blip r:embed="rId3"/>
          <a:stretch/>
        </p:blipFill>
        <p:spPr>
          <a:xfrm>
            <a:off x="5880240" y="3071880"/>
            <a:ext cx="3263760" cy="2300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5786280" y="3000240"/>
            <a:ext cx="3357720" cy="2357640"/>
          </a:xfrm>
          <a:prstGeom prst="rect">
            <a:avLst/>
          </a:prstGeom>
          <a:noFill/>
          <a:ln w="381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071960" y="6202440"/>
            <a:ext cx="191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m = </a:t>
            </a:r>
            <a:r>
              <a:rPr b="0" lang="it-IT" sz="3200" spc="-1" strike="noStrike">
                <a:solidFill>
                  <a:srgbClr val="c00000"/>
                </a:solidFill>
                <a:latin typeface="Symbol"/>
                <a:ea typeface="Symbol"/>
              </a:rPr>
              <a:t></a:t>
            </a: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In practi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752120"/>
            <a:ext cx="80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trivial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ash function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571840" y="2630520"/>
            <a:ext cx="305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5628600" y="2916360"/>
            <a:ext cx="2058840" cy="581400"/>
            <a:chOff x="5628600" y="2916360"/>
            <a:chExt cx="2058840" cy="581400"/>
          </a:xfrm>
        </p:grpSpPr>
        <p:cxnSp>
          <p:nvCxnSpPr>
            <p:cNvPr id="119" name="Straight Arrow Connector 7"/>
            <p:cNvCxnSpPr/>
            <p:nvPr/>
          </p:nvCxnSpPr>
          <p:spPr>
            <a:xfrm flipH="1" flipV="1">
              <a:off x="5628600" y="3058200"/>
              <a:ext cx="786600" cy="3574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20" name="TextBox 8"/>
            <p:cNvSpPr/>
            <p:nvPr/>
          </p:nvSpPr>
          <p:spPr>
            <a:xfrm>
              <a:off x="6372720" y="29163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1" name="Rectangle 10"/>
          <p:cNvSpPr/>
          <p:nvPr/>
        </p:nvSpPr>
        <p:spPr>
          <a:xfrm>
            <a:off x="7429680" y="4643280"/>
            <a:ext cx="14256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1071720" y="4572000"/>
            <a:ext cx="7000560" cy="1143000"/>
            <a:chOff x="1071720" y="4572000"/>
            <a:chExt cx="7000560" cy="1143000"/>
          </a:xfrm>
        </p:grpSpPr>
        <p:pic>
          <p:nvPicPr>
            <p:cNvPr id="123" name="Picture 5" descr=""/>
            <p:cNvPicPr/>
            <p:nvPr/>
          </p:nvPicPr>
          <p:blipFill>
            <a:blip r:embed="rId2"/>
            <a:stretch/>
          </p:blipFill>
          <p:spPr>
            <a:xfrm>
              <a:off x="1176480" y="4652640"/>
              <a:ext cx="66103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12"/>
            <p:cNvSpPr/>
            <p:nvPr/>
          </p:nvSpPr>
          <p:spPr>
            <a:xfrm>
              <a:off x="1071720" y="4572000"/>
              <a:ext cx="7000560" cy="11430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ash i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7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128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139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1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143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3" name="TextBox 40"/>
          <p:cNvSpPr/>
          <p:nvPr/>
        </p:nvSpPr>
        <p:spPr>
          <a:xfrm>
            <a:off x="664920" y="235728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157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58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9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max string l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ckoo Hash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Rectangle 53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60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62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67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69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72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74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75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ctangle 76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77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78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79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Line 80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Line 81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Line 82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Line 83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Line 84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285840" y="5857920"/>
            <a:ext cx="86439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ash tables, and </a:t>
            </a: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ndom choices where an item can be sto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7079400" y="34956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2-10-15T16:47:15Z</dcterms:modified>
  <cp:revision>1153</cp:revision>
  <dc:subject/>
  <dc:title>Web Algorithmics</dc:title>
</cp:coreProperties>
</file>